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wmf" ContentType="image/x-wmf"/>
  <Override PartName="/ppt/media/image12.jpeg" ContentType="image/jpeg"/>
  <Override PartName="/ppt/media/image7.png" ContentType="image/png"/>
  <Override PartName="/ppt/media/image15.wmf" ContentType="image/x-wmf"/>
  <Override PartName="/ppt/media/image22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21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20.png" ContentType="image/png"/>
  <Override PartName="/ppt/media/image2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.png" ContentType="image/png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50C7-A112-4885-8A73-1FE10F5BC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A659-5A90-481D-953C-C141B5360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F789-3246-407B-864A-08B44C0B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0139-6692-4B12-88B0-BAFF823B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F2A3-D518-4F49-A59B-D0FD2737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7B25-7D02-4CF3-A934-17255000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AD8-722B-4E53-83CD-16FAED71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B705-459F-4694-B21E-029EFCD5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6699-AD73-4574-B05F-582E035D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CDDF-90D9-4B7C-A6A7-E6999F60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1537-F7DF-4BCF-A331-6AC82101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B259-CA01-468A-B79E-6A6556B3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CCD-C3F7-4409-B8CB-8ADF8927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3B03-3185-4EB9-B956-6FE4396B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69E2-74D9-44FC-B1B6-A2DC936C2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hyperlink" Target="http://babynamesworld.parentsconnect.com/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hyperlink" Target="http://www.zelo.com/firstnames/celebs.asp" TargetMode="External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9360">
            <a:solidFill>
              <a:srgbClr val="3c1a56"/>
            </a:solidFill>
            <a:miter/>
          </a:ln>
        </p:spPr>
      </p:pic>
      <p:sp>
        <p:nvSpPr>
          <p:cNvPr id="51" name="Text Box 9"/>
          <p:cNvSpPr/>
          <p:nvPr/>
        </p:nvSpPr>
        <p:spPr>
          <a:xfrm>
            <a:off x="914400" y="4843440"/>
            <a:ext cx="784872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1a56"/>
                </a:solidFill>
                <a:latin typeface="Edwardian Script ITC"/>
              </a:rPr>
              <a:t>Words have meaning, but names have po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1a56"/>
                </a:solidFill>
                <a:latin typeface="Edwardian Script ITC"/>
              </a:rPr>
              <a:t>-</a:t>
            </a: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Author unknow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C:\Users\Owner\AppData\Local\Microsoft\Windows\Temporary Internet Files\Content.IE5\LML1ILU1\MCj04382850000[1].wmf"/>
          <p:cNvPicPr/>
          <p:nvPr/>
        </p:nvPicPr>
        <p:blipFill>
          <a:blip r:embed="rId2"/>
          <a:stretch/>
        </p:blipFill>
        <p:spPr>
          <a:xfrm>
            <a:off x="914400" y="533520"/>
            <a:ext cx="6781680" cy="4160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1143000" y="838080"/>
            <a:ext cx="6705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3c1a56"/>
                </a:solidFill>
                <a:latin typeface="Edwardian Script ITC"/>
              </a:rPr>
              <a:t>Name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114800" y="2514600"/>
            <a:ext cx="419112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3c1a56"/>
                </a:solidFill>
                <a:latin typeface="Edwardian Script ITC"/>
              </a:rPr>
              <a:t>Poem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C:\Users\Owner\AppData\Local\Microsoft\Windows\Temporary Internet Files\Content.IE5\4GR6NGX2\MCj04382950000[1].wmf"/>
          <p:cNvPicPr/>
          <p:nvPr/>
        </p:nvPicPr>
        <p:blipFill>
          <a:blip r:embed="rId3"/>
          <a:stretch/>
        </p:blipFill>
        <p:spPr>
          <a:xfrm>
            <a:off x="380880" y="2057400"/>
            <a:ext cx="3381480" cy="371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C:\Users\Owner\AppData\Local\Microsoft\Windows\Temporary Internet Files\Content.IE5\4GR6NGX2\MCj04382950000[1].wmf"/>
          <p:cNvPicPr/>
          <p:nvPr/>
        </p:nvPicPr>
        <p:blipFill>
          <a:blip r:embed="rId4"/>
          <a:stretch/>
        </p:blipFill>
        <p:spPr>
          <a:xfrm rot="10800000">
            <a:off x="5943240" y="304560"/>
            <a:ext cx="2063880" cy="2266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C:\Users\Owner\AppData\Local\Microsoft\Windows\Temporary Internet Files\Content.IE5\4GR6NGX2\MCj04352460000[1].png"/>
          <p:cNvPicPr/>
          <p:nvPr/>
        </p:nvPicPr>
        <p:blipFill>
          <a:blip r:embed="rId2"/>
          <a:stretch/>
        </p:blipFill>
        <p:spPr>
          <a:xfrm>
            <a:off x="1371600" y="190440"/>
            <a:ext cx="7467480" cy="1866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2971800" y="33480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1a56"/>
                </a:solidFill>
                <a:latin typeface="Curlz MT"/>
              </a:rPr>
              <a:t>Now, Let’s Write Our Own Name Po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0" descr="C:\Users\Owner\AppData\Local\Microsoft\Windows\Temporary Internet Files\Content.IE5\LML1ILU1\MCj04401930000[1].wmf"/>
          <p:cNvPicPr/>
          <p:nvPr/>
        </p:nvPicPr>
        <p:blipFill>
          <a:blip r:embed="rId3"/>
          <a:stretch/>
        </p:blipFill>
        <p:spPr>
          <a:xfrm rot="16200000">
            <a:off x="-2871720" y="2973240"/>
            <a:ext cx="6858000" cy="9111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7"/>
          <p:cNvSpPr/>
          <p:nvPr/>
        </p:nvSpPr>
        <p:spPr>
          <a:xfrm>
            <a:off x="1676520" y="2104920"/>
            <a:ext cx="746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c1a56"/>
              </a:buClr>
              <a:buSzPct val="121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Remember, your name poem should “LOOK” </a:t>
            </a: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like a po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1a56"/>
              </a:buClr>
              <a:buSzPct val="121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It should contain 10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1a56"/>
              </a:buClr>
              <a:buSzPct val="121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Make sure you follow the formula, but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1a56"/>
              </a:buClr>
              <a:buSzPct val="121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DON’T number the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1a56"/>
              </a:buClr>
              <a:buSzPct val="121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DON’T underline any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1a56"/>
              </a:buClr>
              <a:buSzPct val="121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DON’T write the formula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1a56"/>
              </a:buClr>
              <a:buSzPct val="121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DON’T write periods at the end of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1a56"/>
              </a:buClr>
              <a:buSzPct val="121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1a56"/>
              </a:buClr>
              <a:buSzPct val="121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Be creative…..your audience should know </a:t>
            </a: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you better after reading your name po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1a56"/>
              </a:buClr>
              <a:buSzPct val="121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914400" y="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1a56"/>
                </a:solidFill>
                <a:latin typeface="Curlz MT"/>
              </a:rPr>
              <a:t>Name Poem Formu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990720" y="762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Line 1:  Firs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990720" y="1295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Line 2:  Three words that describe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990720" y="182880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Line 3:  Lover of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990720" y="228600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Line 4:  Who feels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289548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Line 5:  Who needs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990720" y="3124080"/>
            <a:ext cx="8076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Line 6:  Who gives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990720" y="3809880"/>
            <a:ext cx="716256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Line 7:  Who fears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990720" y="46483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Line 8:  Who would like to see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990720" y="5257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Line 9:  Resident of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990720" y="585324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Line 10:  Las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7" descr="http://sciencetvworkshop.com/images/test_tubes.jpg"/>
          <p:cNvPicPr/>
          <p:nvPr/>
        </p:nvPicPr>
        <p:blipFill>
          <a:blip r:embed="rId2"/>
          <a:stretch/>
        </p:blipFill>
        <p:spPr>
          <a:xfrm>
            <a:off x="7162920" y="2133720"/>
            <a:ext cx="1692000" cy="169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Picture 20" descr="C:\Users\Owner\AppData\Local\Microsoft\Windows\Temporary Internet Files\Content.IE5\LML1ILU1\MCj04401930000[1].wmf"/>
          <p:cNvPicPr/>
          <p:nvPr/>
        </p:nvPicPr>
        <p:blipFill>
          <a:blip r:embed="rId3"/>
          <a:stretch/>
        </p:blipFill>
        <p:spPr>
          <a:xfrm rot="16200000">
            <a:off x="-2871720" y="2973240"/>
            <a:ext cx="6858000" cy="911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914400" y="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1a56"/>
                </a:solidFill>
                <a:latin typeface="Curlz MT"/>
              </a:rPr>
              <a:t>Brainstorm the follow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893880" y="838080"/>
            <a:ext cx="8001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will have five minutes to brainstorm the following things. Keep writing the entire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1a56"/>
                </a:solidFill>
                <a:latin typeface="Arial"/>
              </a:rPr>
              <a:t>The best vacation you have ever taken, or your dream va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0" descr="C:\Users\Owner\AppData\Local\Microsoft\Windows\Temporary Internet Files\Content.IE5\LML1ILU1\MCj04401930000[1].wmf"/>
          <p:cNvPicPr/>
          <p:nvPr/>
        </p:nvPicPr>
        <p:blipFill>
          <a:blip r:embed="rId2"/>
          <a:stretch/>
        </p:blipFill>
        <p:spPr>
          <a:xfrm rot="16200000">
            <a:off x="-2871720" y="2973240"/>
            <a:ext cx="6858000" cy="911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914400" y="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1a56"/>
                </a:solidFill>
                <a:latin typeface="Curlz MT"/>
              </a:rPr>
              <a:t>Brainstorm the follow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893880" y="83808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 conflict you have ha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0" descr="C:\Users\Owner\AppData\Local\Microsoft\Windows\Temporary Internet Files\Content.IE5\LML1ILU1\MCj04401930000[1].wmf"/>
          <p:cNvPicPr/>
          <p:nvPr/>
        </p:nvPicPr>
        <p:blipFill>
          <a:blip r:embed="rId2"/>
          <a:stretch/>
        </p:blipFill>
        <p:spPr>
          <a:xfrm rot="16200000">
            <a:off x="-2871720" y="2973240"/>
            <a:ext cx="6858000" cy="911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914400" y="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1a56"/>
                </a:solidFill>
                <a:latin typeface="Curlz MT"/>
              </a:rPr>
              <a:t>Brainstorm the follow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893880" y="8380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our biggest strength, and your biggest weak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0" descr="C:\Users\Owner\AppData\Local\Microsoft\Windows\Temporary Internet Files\Content.IE5\LML1ILU1\MCj04401930000[1].wmf"/>
          <p:cNvPicPr/>
          <p:nvPr/>
        </p:nvPicPr>
        <p:blipFill>
          <a:blip r:embed="rId2"/>
          <a:stretch/>
        </p:blipFill>
        <p:spPr>
          <a:xfrm rot="16200000">
            <a:off x="-2871720" y="2973240"/>
            <a:ext cx="6858000" cy="911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14400" y="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1a56"/>
                </a:solidFill>
                <a:latin typeface="Curlz MT"/>
              </a:rPr>
              <a:t>Brainstorm the follow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893880" y="8380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you want this school year to be differe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0" descr="C:\Users\Owner\AppData\Local\Microsoft\Windows\Temporary Internet Files\Content.IE5\LML1ILU1\MCj04401930000[1].wmf"/>
          <p:cNvPicPr/>
          <p:nvPr/>
        </p:nvPicPr>
        <p:blipFill>
          <a:blip r:embed="rId2"/>
          <a:stretch/>
        </p:blipFill>
        <p:spPr>
          <a:xfrm rot="16200000">
            <a:off x="-2871720" y="2973240"/>
            <a:ext cx="6858000" cy="911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914400" y="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1a56"/>
                </a:solidFill>
                <a:latin typeface="Curlz MT"/>
              </a:rPr>
              <a:t>Brainstorm the follow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893880" y="83808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our choi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0" descr="C:\Users\Owner\AppData\Local\Microsoft\Windows\Temporary Internet Files\Content.IE5\LML1ILU1\MCj04401930000[1].wmf"/>
          <p:cNvPicPr/>
          <p:nvPr/>
        </p:nvPicPr>
        <p:blipFill>
          <a:blip r:embed="rId2"/>
          <a:stretch/>
        </p:blipFill>
        <p:spPr>
          <a:xfrm rot="16200000">
            <a:off x="-2871720" y="2973240"/>
            <a:ext cx="6858000" cy="911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175680" y="4952880"/>
            <a:ext cx="94482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What's in a name?  That which we call a rose</a:t>
            </a:r>
            <a:br>
              <a:rPr sz="3200"/>
            </a:b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	</a:t>
            </a: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by any other name would smell as sweet.</a:t>
            </a:r>
            <a:br>
              <a:rPr sz="3200"/>
            </a:b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	</a:t>
            </a: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   </a:t>
            </a:r>
            <a:r>
              <a:rPr b="1" lang="en-US" sz="2400" spc="-1" strike="noStrike">
                <a:solidFill>
                  <a:srgbClr val="3c1a56"/>
                </a:solidFill>
                <a:latin typeface="Edwardian Script ITC"/>
              </a:rPr>
              <a:t>~William Shakespeare, </a:t>
            </a:r>
            <a:r>
              <a:rPr b="1" i="1" lang="en-US" sz="2400" spc="-1" strike="noStrike">
                <a:solidFill>
                  <a:srgbClr val="3c1a56"/>
                </a:solidFill>
                <a:latin typeface="Edwardian Script ITC"/>
              </a:rPr>
              <a:t>Romeo and Juliet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MCj04348420000[1]"/>
          <p:cNvPicPr/>
          <p:nvPr/>
        </p:nvPicPr>
        <p:blipFill>
          <a:blip r:embed="rId2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7621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rial"/>
              </a:rPr>
              <a:t>Think about your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685800" y="1143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rial"/>
              </a:rPr>
              <a:t>Are you proud of your n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981080" y="182880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rial"/>
              </a:rPr>
              <a:t>Are you named after someone, maybe a family member or a friend?</a:t>
            </a:r>
            <a:r>
              <a:rPr b="0" lang="en-US" sz="1800" spc="-1" strike="noStrike">
                <a:solidFill>
                  <a:srgbClr val="3c1a5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1752480" y="33526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rial"/>
              </a:rPr>
              <a:t>If you could choose a different name, what would it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8" descr="C:\Users\Owner\AppData\Local\Microsoft\Windows\Temporary Internet Files\Content.IE5\LML1ILU1\MCj04379720000[1].wmf"/>
          <p:cNvPicPr/>
          <p:nvPr/>
        </p:nvPicPr>
        <p:blipFill>
          <a:blip r:embed="rId3"/>
          <a:stretch/>
        </p:blipFill>
        <p:spPr>
          <a:xfrm rot="5400000">
            <a:off x="-1019520" y="4467240"/>
            <a:ext cx="371484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C:\Users\Owner\AppData\Local\Microsoft\Windows\Temporary Internet Files\Content.IE5\LML1ILU1\MCj04379720000[1].wmf"/>
          <p:cNvPicPr/>
          <p:nvPr/>
        </p:nvPicPr>
        <p:blipFill>
          <a:blip r:embed="rId4"/>
          <a:stretch/>
        </p:blipFill>
        <p:spPr>
          <a:xfrm rot="5400000">
            <a:off x="-1019520" y="1324080"/>
            <a:ext cx="3714840" cy="1066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-29880" y="5562720"/>
            <a:ext cx="115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“</a:t>
            </a: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Good men must die, but death cannot kill their nam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Edwardian Script ITC"/>
              </a:rPr>
              <a:t>~Pro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219320" y="3808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1a56"/>
                </a:solidFill>
                <a:latin typeface="Curlz MT"/>
              </a:rPr>
              <a:t>Let’s Explore the Meanings of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85800" y="1143000"/>
            <a:ext cx="84582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Jason – to h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Sarah – lady; prin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Reggie –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Adam – man;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Brianna – noble, strong, virt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Daniel – God is my ju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Samantha - lis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C:\Users\Owner\AppData\Local\Microsoft\Windows\Temporary Internet Files\Content.IE5\LML1ILU1\MCj04370380000[1].wmf"/>
          <p:cNvPicPr/>
          <p:nvPr/>
        </p:nvPicPr>
        <p:blipFill>
          <a:blip r:embed="rId2"/>
          <a:stretch/>
        </p:blipFill>
        <p:spPr>
          <a:xfrm rot="16200000">
            <a:off x="-2552400" y="2933640"/>
            <a:ext cx="6858000" cy="990720"/>
          </a:xfrm>
          <a:prstGeom prst="rect">
            <a:avLst/>
          </a:prstGeom>
          <a:ln w="0">
            <a:noFill/>
          </a:ln>
        </p:spPr>
      </p:pic>
      <p:grpSp>
        <p:nvGrpSpPr>
          <p:cNvPr id="75" name="Action Button: Information 24"/>
          <p:cNvGrpSpPr/>
          <p:nvPr/>
        </p:nvGrpSpPr>
        <p:grpSpPr>
          <a:xfrm>
            <a:off x="7669080" y="3932280"/>
            <a:ext cx="1200240" cy="1352520"/>
            <a:chOff x="7669080" y="3932280"/>
            <a:chExt cx="1200240" cy="1352520"/>
          </a:xfrm>
        </p:grpSpPr>
        <p:pic>
          <p:nvPicPr>
            <p:cNvPr id="76" name="Action Button: Information 24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669080" y="3932280"/>
              <a:ext cx="120024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7696080" y="3962520"/>
              <a:ext cx="1143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2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2895480" y="5181480"/>
            <a:ext cx="59436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“</a:t>
            </a: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From our ancestors come our nam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but from our virtues our honors”</a:t>
            </a: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	</a:t>
            </a: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Edwardian Script ITC"/>
              </a:rPr>
              <a:t>~Proverb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676520" y="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1a56"/>
                </a:solidFill>
                <a:latin typeface="Curlz MT"/>
              </a:rPr>
              <a:t>Name Chan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828800" y="838080"/>
            <a:ext cx="701028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c1a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1a56"/>
                </a:solidFill>
                <a:latin typeface="Arial"/>
              </a:rPr>
              <a:t>Many people change their name when they go into the entertainment indust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c1a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1a56"/>
                </a:solidFill>
                <a:latin typeface="Arial"/>
              </a:rPr>
              <a:t>There are several reasons for choosing a stage name instead of using your birth na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c1a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1a56"/>
                </a:solidFill>
                <a:latin typeface="Arial"/>
              </a:rPr>
              <a:t>Often names are changed because they don't have the right sound, they are too hard to pronounce, or they are thought to be too plain and ordina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c1a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1a56"/>
                </a:solidFill>
                <a:latin typeface="Arial"/>
              </a:rPr>
              <a:t>Sometimes people wish to conceal their family origi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Owner\AppData\Local\Microsoft\Windows\Temporary Internet Files\Content.IE5\4GR6NGX2\MCj04370360000[1].wmf"/>
          <p:cNvPicPr/>
          <p:nvPr/>
        </p:nvPicPr>
        <p:blipFill>
          <a:blip r:embed="rId2"/>
          <a:stretch/>
        </p:blipFill>
        <p:spPr>
          <a:xfrm rot="16200000">
            <a:off x="-2514240" y="2895480"/>
            <a:ext cx="6858000" cy="1067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Owner\AppData\Local\Microsoft\Windows\Temporary Internet Files\Content.IE5\LML1ILU1\MPj03877590000[1].jpg"/>
          <p:cNvPicPr/>
          <p:nvPr/>
        </p:nvPicPr>
        <p:blipFill>
          <a:blip r:embed="rId3"/>
          <a:stretch/>
        </p:blipFill>
        <p:spPr>
          <a:xfrm>
            <a:off x="3200400" y="4890960"/>
            <a:ext cx="1239840" cy="173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circl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752480" y="5607000"/>
            <a:ext cx="71629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“</a:t>
            </a: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The beginning of wisdom is to call things by their right names”</a:t>
            </a:r>
            <a:br>
              <a:rPr sz="3200"/>
            </a:b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	</a:t>
            </a: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   </a:t>
            </a:r>
            <a:r>
              <a:rPr b="1" lang="en-US" sz="2400" spc="-1" strike="noStrike">
                <a:solidFill>
                  <a:srgbClr val="3c1a56"/>
                </a:solidFill>
                <a:latin typeface="Edwardian Script ITC"/>
              </a:rPr>
              <a:t>~Chinese Proverb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762120" y="76320"/>
            <a:ext cx="830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1a56"/>
                </a:solidFill>
                <a:latin typeface="Curlz MT"/>
              </a:rPr>
              <a:t>Celebrity Na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85800" y="1125360"/>
            <a:ext cx="8458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Jennifer Anniston – Jennifer Anastassa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50 Cent – Curtis Jack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Miley Cyrus – Destiny Hope Cy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Snoop Dog – Cordazer Calvin Broa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The Rock – Dwayne Douglas Joh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Dr. Seuss – Theodore Seuss Gei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Tina Turner – Anna Mae Bul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Jamie Foxx – Eric Bi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C:\Users\Owner\AppData\Local\Microsoft\Windows\Temporary Internet Files\Content.IE5\WO12WW8G\MCj04371640000[1].wmf"/>
          <p:cNvPicPr/>
          <p:nvPr/>
        </p:nvPicPr>
        <p:blipFill>
          <a:blip r:embed="rId2"/>
          <a:stretch/>
        </p:blipFill>
        <p:spPr>
          <a:xfrm rot="16200000">
            <a:off x="-2590560" y="2895480"/>
            <a:ext cx="68580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93" name="Action Button: Information 8"/>
          <p:cNvGrpSpPr/>
          <p:nvPr/>
        </p:nvGrpSpPr>
        <p:grpSpPr>
          <a:xfrm>
            <a:off x="7742160" y="4164120"/>
            <a:ext cx="1200240" cy="1199880"/>
            <a:chOff x="7742160" y="4164120"/>
            <a:chExt cx="1200240" cy="1199880"/>
          </a:xfrm>
        </p:grpSpPr>
        <p:pic>
          <p:nvPicPr>
            <p:cNvPr id="94" name="Action Button: Information 8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742160" y="4164120"/>
              <a:ext cx="120024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772400" y="4191120"/>
              <a:ext cx="1143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2" descr="http://silentopinion.files.wordpress.com/2008/07/jennifer_aniston.jpg"/>
          <p:cNvPicPr/>
          <p:nvPr/>
        </p:nvPicPr>
        <p:blipFill>
          <a:blip r:embed="rId5"/>
          <a:stretch/>
        </p:blipFill>
        <p:spPr>
          <a:xfrm>
            <a:off x="7620120" y="1523880"/>
            <a:ext cx="1349280" cy="134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Picture 4" descr="http://www.topnews.in/files/Jamie_Foxx.jpg"/>
          <p:cNvPicPr/>
          <p:nvPr/>
        </p:nvPicPr>
        <p:blipFill>
          <a:blip r:embed="rId6"/>
          <a:stretch/>
        </p:blipFill>
        <p:spPr>
          <a:xfrm>
            <a:off x="685800" y="4267080"/>
            <a:ext cx="1378080" cy="1378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" name="Picture 6" descr="http://image.examiner.com/images/blog/wysiwyg/image/miley_cyrus(3).jpg"/>
          <p:cNvPicPr/>
          <p:nvPr/>
        </p:nvPicPr>
        <p:blipFill>
          <a:blip r:embed="rId7"/>
          <a:stretch/>
        </p:blipFill>
        <p:spPr>
          <a:xfrm>
            <a:off x="685800" y="1682640"/>
            <a:ext cx="1197000" cy="167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circl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2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3581280" y="4952880"/>
            <a:ext cx="5334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Edwardian Script ITC"/>
              </a:rPr>
              <a:t>Nicknames stick to people, and the most ridiculous are the most adhes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Edwardian Script ITC"/>
              </a:rPr>
              <a:t> </a:t>
            </a:r>
            <a:r>
              <a:rPr b="1" lang="en-US" sz="2800" spc="-1" strike="noStrike">
                <a:solidFill>
                  <a:srgbClr val="3c1a56"/>
                </a:solidFill>
                <a:latin typeface="Edwardian Script ITC"/>
              </a:rPr>
              <a:t>- Thomas C. Halibur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52280" y="38088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c1a56"/>
                </a:solidFill>
                <a:latin typeface="Curlz MT"/>
              </a:rPr>
              <a:t>Hullygul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57200" y="160020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c1a56"/>
                </a:solidFill>
                <a:latin typeface="Curlz MT"/>
              </a:rPr>
              <a:t>Mudp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0" y="26668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c1a56"/>
                </a:solidFill>
                <a:latin typeface="Curlz MT"/>
              </a:rPr>
              <a:t>Pocket Mou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80880" y="37339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c1a56"/>
                </a:solidFill>
                <a:latin typeface="Curlz MT"/>
              </a:rPr>
              <a:t>Stargir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MCj02378370000[1]"/>
          <p:cNvPicPr/>
          <p:nvPr/>
        </p:nvPicPr>
        <p:blipFill>
          <a:blip r:embed="rId2"/>
          <a:stretch/>
        </p:blipFill>
        <p:spPr>
          <a:xfrm>
            <a:off x="5791320" y="3048120"/>
            <a:ext cx="2590560" cy="1743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C:\Users\Owner\AppData\Local\Microsoft\Windows\Temporary Internet Files\Content.IE5\WO12WW8G\MCj04371670000[1].wmf"/>
          <p:cNvPicPr/>
          <p:nvPr/>
        </p:nvPicPr>
        <p:blipFill>
          <a:blip r:embed="rId3"/>
          <a:stretch/>
        </p:blipFill>
        <p:spPr>
          <a:xfrm rot="16200000">
            <a:off x="-2525400" y="2906640"/>
            <a:ext cx="6858000" cy="10447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1"/>
          <p:cNvSpPr/>
          <p:nvPr/>
        </p:nvSpPr>
        <p:spPr>
          <a:xfrm>
            <a:off x="5943600" y="102060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1a56"/>
                </a:solidFill>
                <a:latin typeface="Arial"/>
              </a:rPr>
              <a:t>Do you have a nick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048120" y="228600"/>
            <a:ext cx="594360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Comic Sans MS"/>
              </a:rPr>
              <a:t>C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Comic Sans MS"/>
              </a:rPr>
              <a:t>short, compassionate, fun-l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Comic Sans MS"/>
              </a:rPr>
              <a:t>Lover of stand-up com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Comic Sans MS"/>
              </a:rPr>
              <a:t>Who feels excited about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Comic Sans MS"/>
              </a:rPr>
              <a:t>Who needs to feel l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Comic Sans MS"/>
              </a:rPr>
              <a:t>Who gives her all to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Comic Sans MS"/>
              </a:rPr>
              <a:t>Who fears clow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Comic Sans MS"/>
              </a:rPr>
              <a:t>Who would like to see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Comic Sans MS"/>
              </a:rPr>
              <a:t>Resident of Antioch, T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Comic Sans MS"/>
              </a:rPr>
              <a:t>And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0" descr="C:\Users\Owner\AppData\Local\Microsoft\Windows\Temporary Internet Files\Content.IE5\LML1ILU1\MCj04401930000[1].wmf"/>
          <p:cNvPicPr/>
          <p:nvPr/>
        </p:nvPicPr>
        <p:blipFill>
          <a:blip r:embed="rId2"/>
          <a:stretch/>
        </p:blipFill>
        <p:spPr>
          <a:xfrm rot="16200000">
            <a:off x="-2592000" y="2973240"/>
            <a:ext cx="6858000" cy="911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http://csmoody.files.wordpress.com/2009/03/clowns.jpg"/>
          <p:cNvPicPr/>
          <p:nvPr/>
        </p:nvPicPr>
        <p:blipFill>
          <a:blip r:embed="rId3"/>
          <a:stretch/>
        </p:blipFill>
        <p:spPr>
          <a:xfrm>
            <a:off x="304920" y="3722760"/>
            <a:ext cx="2819160" cy="206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circl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0" y="139680"/>
            <a:ext cx="784872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Brush455 BT"/>
              </a:rPr>
              <a:t>Bev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Brush455 BT"/>
              </a:rPr>
              <a:t>talkative, energetic, mu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Brush455 BT"/>
              </a:rPr>
              <a:t>Lover of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Brush455 BT"/>
              </a:rPr>
              <a:t>Who feels respo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Brush455 BT"/>
              </a:rPr>
              <a:t>Who needs mor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Brush455 BT"/>
              </a:rPr>
              <a:t>Who gives her best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Brush455 BT"/>
              </a:rPr>
              <a:t>Who fears spiders and sn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Brush455 BT"/>
              </a:rPr>
              <a:t>Who would like to see every child in a loving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Brush455 BT"/>
              </a:rPr>
              <a:t>Resident of a wonderfu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Brush455 BT"/>
              </a:rPr>
              <a:t>Br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0" descr="C:\Users\Owner\AppData\Local\Microsoft\Windows\Temporary Internet Files\Content.IE5\LML1ILU1\MCj04401930000[1].wmf"/>
          <p:cNvPicPr/>
          <p:nvPr/>
        </p:nvPicPr>
        <p:blipFill>
          <a:blip r:embed="rId2"/>
          <a:stretch/>
        </p:blipFill>
        <p:spPr>
          <a:xfrm rot="16200000">
            <a:off x="4875120" y="2973240"/>
            <a:ext cx="6858000" cy="911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http://maxelindustries.com/images/bigstockphoto_happy_children_1375713.jpg"/>
          <p:cNvPicPr/>
          <p:nvPr/>
        </p:nvPicPr>
        <p:blipFill>
          <a:blip r:embed="rId3"/>
          <a:stretch/>
        </p:blipFill>
        <p:spPr>
          <a:xfrm>
            <a:off x="5943600" y="1371600"/>
            <a:ext cx="2908440" cy="19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circl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2438280" y="228600"/>
            <a:ext cx="6477120" cy="74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mericana BT"/>
              </a:rPr>
              <a:t>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mericana BT"/>
              </a:rPr>
              <a:t>hairy, big mouthed, feroc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mericana BT"/>
              </a:rPr>
              <a:t>Lover of barbeque and 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mericana BT"/>
              </a:rPr>
              <a:t>Who feels hung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mericana BT"/>
              </a:rPr>
              <a:t>Who needs a good m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mericana BT"/>
              </a:rPr>
              <a:t>Who gives huffs and pu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mericana BT"/>
              </a:rPr>
              <a:t>Who fears brick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mericana BT"/>
              </a:rPr>
              <a:t>Who would like to see a smorgasb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mericana BT"/>
              </a:rPr>
              <a:t>Resident of the w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mericana BT"/>
              </a:rPr>
              <a:t>Bad W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0" descr="C:\Users\Owner\AppData\Local\Microsoft\Windows\Temporary Internet Files\Content.IE5\LML1ILU1\MCj04401930000[1].wmf"/>
          <p:cNvPicPr/>
          <p:nvPr/>
        </p:nvPicPr>
        <p:blipFill>
          <a:blip r:embed="rId2"/>
          <a:stretch/>
        </p:blipFill>
        <p:spPr>
          <a:xfrm rot="16200000">
            <a:off x="-2744640" y="2973240"/>
            <a:ext cx="6858000" cy="911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http://www.logoi.com/pastimages/img/big_bad_wolf_4.jpg"/>
          <p:cNvPicPr/>
          <p:nvPr/>
        </p:nvPicPr>
        <p:blipFill>
          <a:blip r:embed="rId3"/>
          <a:stretch/>
        </p:blipFill>
        <p:spPr>
          <a:xfrm>
            <a:off x="365040" y="1219320"/>
            <a:ext cx="2627280" cy="678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20:59:34Z</dcterms:created>
  <dc:creator>bcarnahan</dc:creator>
  <dc:description/>
  <dc:language>en-US</dc:language>
  <cp:lastModifiedBy>Angie McCall</cp:lastModifiedBy>
  <dcterms:modified xsi:type="dcterms:W3CDTF">2013-08-20T15:26:20Z</dcterms:modified>
  <cp:revision>44</cp:revision>
  <dc:subject/>
  <dc:title>Slide 1</dc:title>
</cp:coreProperties>
</file>